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8BB-8BC9-4297-A84B-03ACAF1D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5A-6804-4BDF-B233-EDDD919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151-2CF2-4392-AED5-6D063E03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14B-3C30-4CA6-A157-81472019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064-CE33-4633-BFC4-93C7D5B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91B-18EB-499B-86CB-8221C1A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071-B488-428A-893E-59D0C36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8B7-8FB9-4E19-9B3B-0674398D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825-2FB0-4108-B9A2-0A676C2C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FD0-C79E-4D1B-AFE0-BF14627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876-8DD2-4F75-8F7D-2BE5EAB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BCB-5C6B-4EE0-AF7A-2319176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A7E-09EF-40FD-AD5C-40F42BCD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 в психолг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ция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нтификация личности — механизм, работа которого основана на существовании эмоциональной связи индивида с другими людьми, прежде всего его родителями, приводящий к уподоблению, чаще всего неосознанному, этим значимым другим. Ориентация на другого человека как на образец существенно повышает показатели социального научения. За счет идентификации у маленького ребенка происходит формирование поведенческих стереотипов, образующих черты личности, определение ценностных ориентаций и полоролевой идент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оляция как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яция в психологии личности — форма психологической защиты. Характеризуется тем, что при ее реализации происходит блокирование отрицательных эмоций за счет устранения из сознания связи между ними и их источ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44:53Z</dcterms:created>
  <dc:creator>havr</dc:creator>
  <dc:description/>
  <dc:language>en-US</dc:language>
  <cp:lastModifiedBy>havr</cp:lastModifiedBy>
  <dcterms:modified xsi:type="dcterms:W3CDTF">2008-09-08T11:45:12Z</dcterms:modified>
  <cp:revision>1</cp:revision>
  <dc:subject/>
  <dc:title>Введение в психолгию</dc:title>
</cp:coreProperties>
</file>