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E5B7-AD55-4D98-97A3-4F8DC3F59B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%-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DDF6-BE07-42CC-B650-4928FF1D10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ение след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B3EE-F180-4A27-A84B-29EA1C9C0A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EE32-AB64-4383-9DF3-A605CBD7A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787B-D688-4CF8-9D90-F9C56629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2790-BEB6-4D20-AFAA-DE05A9989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2868-2A5F-4264-956A-F479F7720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0F18-7C6C-4F37-8A14-63EC7695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00A1-5C40-441E-B506-18A29EE0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9A53-2C94-4D3E-A1F3-2CA45A19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9EA9-6336-4158-837B-CBC470A6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AEB0-4D90-4BC8-8E8C-5026906E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4248-3DCD-4CB5-9FEC-1177EA34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67C0-585F-41AA-AADD-29594193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84F5-E25A-4568-8F38-43E98004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9189-1DAD-4983-8349-4A55B84D57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мая полезная презента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Или чушь и баклажанная револю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гда баклажаны правили мир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5T15:58:26Z</dcterms:created>
  <dc:creator>Alevtina Gamzikova</dc:creator>
  <dc:description/>
  <dc:language>en-US</dc:language>
  <cp:lastModifiedBy>Alevtina Gamzikova</cp:lastModifiedBy>
  <dcterms:modified xsi:type="dcterms:W3CDTF">2012-01-15T16:03:58Z</dcterms:modified>
  <cp:revision>1</cp:revision>
  <dc:subject/>
  <dc:title>Самая полезная презентация</dc:title>
</cp:coreProperties>
</file>